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77676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6976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687560"/>
            <a:ext cx="533556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776760" y="937224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0727825-86D5-4853-AB0C-7A070BE04C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012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687560"/>
            <a:ext cx="533556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ierbij hebben we meteen al één van de informatieproducten te pakk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lke zijn er nog meer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192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96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192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96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5880" y="991800"/>
            <a:ext cx="744084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192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96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588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192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96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91800"/>
            <a:ext cx="744084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455760" y="533520"/>
            <a:ext cx="8231040" cy="5711760"/>
          </a:xfrm>
          <a:prstGeom prst="roundRect">
            <a:avLst>
              <a:gd name="adj" fmla="val 7588"/>
            </a:avLst>
          </a:prstGeom>
          <a:solidFill>
            <a:srgbClr val="c5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1"/>
          <p:cNvSpPr/>
          <p:nvPr/>
        </p:nvSpPr>
        <p:spPr>
          <a:xfrm>
            <a:off x="876240" y="884160"/>
            <a:ext cx="7440840" cy="0"/>
          </a:xfrm>
          <a:prstGeom prst="line">
            <a:avLst/>
          </a:prstGeom>
          <a:ln w="19080">
            <a:solidFill>
              <a:srgbClr val="27aa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KvK-logo_RGB"/>
          <p:cNvPicPr/>
          <p:nvPr/>
        </p:nvPicPr>
        <p:blipFill>
          <a:blip r:embed="rId2"/>
          <a:stretch/>
        </p:blipFill>
        <p:spPr>
          <a:xfrm>
            <a:off x="7886880" y="5702400"/>
            <a:ext cx="1041120" cy="88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9640" indent="-17928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928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76240" y="6341760"/>
            <a:ext cx="5880240" cy="1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560520" y="3773520"/>
            <a:ext cx="8022960" cy="2389320"/>
          </a:xfrm>
          <a:prstGeom prst="roundRect">
            <a:avLst>
              <a:gd name="adj" fmla="val 18606"/>
            </a:avLst>
          </a:prstGeom>
          <a:solidFill>
            <a:srgbClr val="c5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Maarten-MKB-KVK-01LR"/>
          <p:cNvPicPr/>
          <p:nvPr/>
        </p:nvPicPr>
        <p:blipFill>
          <a:blip r:embed="rId2"/>
          <a:stretch/>
        </p:blipFill>
        <p:spPr>
          <a:xfrm>
            <a:off x="0" y="0"/>
            <a:ext cx="9144000" cy="4143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60360" y="3773520"/>
            <a:ext cx="8512200" cy="2849400"/>
            <a:chOff x="360360" y="3773520"/>
            <a:chExt cx="8512200" cy="2849400"/>
          </a:xfrm>
        </p:grpSpPr>
        <p:sp>
          <p:nvSpPr>
            <p:cNvPr id="45" name="AutoShape 15"/>
            <p:cNvSpPr/>
            <p:nvPr/>
          </p:nvSpPr>
          <p:spPr>
            <a:xfrm>
              <a:off x="560520" y="3773520"/>
              <a:ext cx="8022960" cy="2389320"/>
            </a:xfrm>
            <a:prstGeom prst="roundRect">
              <a:avLst>
                <a:gd name="adj" fmla="val 18606"/>
              </a:avLst>
            </a:prstGeom>
            <a:solidFill>
              <a:srgbClr val="c5d8e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6"/>
            <p:cNvSpPr/>
            <p:nvPr/>
          </p:nvSpPr>
          <p:spPr>
            <a:xfrm>
              <a:off x="360360" y="4143240"/>
              <a:ext cx="8423280" cy="0"/>
            </a:xfrm>
            <a:prstGeom prst="line">
              <a:avLst/>
            </a:prstGeom>
            <a:ln w="19080">
              <a:solidFill>
                <a:srgbClr val="27aa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8" descr="KvK-logo_RGB"/>
            <p:cNvPicPr/>
            <p:nvPr/>
          </p:nvPicPr>
          <p:blipFill>
            <a:blip r:embed="rId3"/>
            <a:stretch/>
          </p:blipFill>
          <p:spPr>
            <a:xfrm>
              <a:off x="7372440" y="5349960"/>
              <a:ext cx="1500120" cy="12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4115880"/>
            <a:ext cx="63406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4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4144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41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41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free.clipartof.com/7-Free-Teamwork-Clip-Art-Of-A-Circle-Of-Diverse-People-Holding-Hands.png&amp;imgrefurl=http://free.clipartof.com/details/7-Free-Teamwork-Clip-Art-Of-A-Circle-Of-Diverse-People-Holding-Hands&amp;usg=__g_LztDSYYNv1sGmvRpqEiwigV1A=&amp;h=1191&amp;w=1200&amp;sz=69&amp;hl=en&amp;start=6&amp;zoom=1&amp;tbnid=kTaTlBgNOsUhaM:&amp;tbnh=149&amp;tbnw=150&amp;ei=1Nq1UPOmLIeC4gSTlIGQDQ&amp;prev=/search%3Fq%3Dmeeting%2Bicon%26hl%3Den%26sa%3DN%26tbs%3Disz:l,itp:clipart%26tbm%3Disch&amp;itbs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5880" y="4292640"/>
            <a:ext cx="63406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"/>
              </a:rPr>
              <a:t>KvK Verticaal Sectormodel</a:t>
            </a:r>
            <a:br>
              <a:rPr sz="3600"/>
            </a:b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StUF-Regiegroep 05 dec.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02480" y="5329080"/>
            <a:ext cx="1414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7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Beschreven beheer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75880" y="1267920"/>
            <a:ext cx="744084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chreven beheer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beheer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samen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wijzigings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van StUF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faciliteert bijeenkom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behandelt en vormt eindoord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8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Inzicht in implement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76240" y="1483920"/>
            <a:ext cx="76564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icht in toekomstige implementa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ast het gebruikelijk onderhoud (adaptief en correcti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R DataServi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u vier producten, later mogelijk me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derzoek extra zoekinga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gelijk aansluiten op StUF-BG (eerst impactanaly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R Berichten (gebeurteniss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tuffen van HR Berichten (gebeurteni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Zo mogelijk aansluiten op Stelsel initiati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176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Ronde Tafel Conferentie (Bureau Forum Standaadisat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176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verbetervoorstellen overige basisregistraties (mGBA,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552240"/>
            <a:ext cx="7440840" cy="3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1: Aansluiten op bestaande gemeenten 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860640"/>
            <a:ext cx="1872000" cy="989280"/>
          </a:xfrm>
          <a:prstGeom prst="rect">
            <a:avLst/>
          </a:prstGeom>
          <a:solidFill>
            <a:srgbClr val="27aae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914640"/>
            <a:ext cx="1873080" cy="935280"/>
          </a:xfrm>
          <a:prstGeom prst="rect">
            <a:avLst/>
          </a:prstGeom>
          <a:solidFill>
            <a:srgbClr val="ff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FORMATIE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201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4000" y="1201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4920" y="120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07520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8120" y="4365720"/>
            <a:ext cx="110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35440" y="4365720"/>
            <a:ext cx="750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9116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0120" y="3716280"/>
            <a:ext cx="12096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77080" y="2708280"/>
            <a:ext cx="51408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34120" y="2708280"/>
            <a:ext cx="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96720" y="1339920"/>
            <a:ext cx="3645720" cy="1512720"/>
            <a:chOff x="3996720" y="1339920"/>
            <a:chExt cx="3645720" cy="1512720"/>
          </a:xfrm>
        </p:grpSpPr>
        <p:pic>
          <p:nvPicPr>
            <p:cNvPr id="16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0194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11760" y="162864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856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0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672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6040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4880" y="133992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4268880" y="2384280"/>
            <a:ext cx="4665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8880" y="238428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"/>
          <p:cNvSpPr/>
          <p:nvPr/>
        </p:nvSpPr>
        <p:spPr>
          <a:xfrm flipH="1" flipV="1">
            <a:off x="4932360" y="2997000"/>
            <a:ext cx="719280" cy="61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6360" y="2859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200" y="2936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95680" y="371628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-Inschrijv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 Ves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7920" y="465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74520" y="501336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staande situ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552600"/>
            <a:ext cx="7871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2: Aansluiten op nieuwe gemeenten database (StuF-B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914640"/>
            <a:ext cx="1873080" cy="935280"/>
          </a:xfrm>
          <a:prstGeom prst="rect">
            <a:avLst/>
          </a:prstGeom>
          <a:solidFill>
            <a:srgbClr val="ff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FORMATIE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4xx + N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13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4000" y="1201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84920" y="120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5040" y="4359240"/>
            <a:ext cx="258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9116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80120" y="3716280"/>
            <a:ext cx="12096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77080" y="2708280"/>
            <a:ext cx="51408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134120" y="2708280"/>
            <a:ext cx="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96720" y="1339920"/>
            <a:ext cx="3645720" cy="1512720"/>
            <a:chOff x="3996720" y="1339920"/>
            <a:chExt cx="3645720" cy="1512720"/>
          </a:xfrm>
        </p:grpSpPr>
        <p:pic>
          <p:nvPicPr>
            <p:cNvPr id="19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0194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11760" y="162864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856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0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9672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040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4880" y="133992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268880" y="2384280"/>
            <a:ext cx="4665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8880" y="238428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2" name=""/>
          <p:cNvSpPr/>
          <p:nvPr/>
        </p:nvSpPr>
        <p:spPr>
          <a:xfrm flipH="1" flipV="1">
            <a:off x="4932360" y="2997000"/>
            <a:ext cx="719280" cy="61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6360" y="2859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4200" y="2936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914640"/>
            <a:ext cx="1871640" cy="989280"/>
          </a:xfrm>
          <a:prstGeom prst="rect">
            <a:avLst/>
          </a:prstGeom>
          <a:gradFill rotWithShape="0">
            <a:gsLst>
              <a:gs pos="0">
                <a:srgbClr val="27aae1"/>
              </a:gs>
              <a:gs pos="100000">
                <a:srgbClr val="ffcc33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(in lijn met StUF-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38624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-Inschrijv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 Ves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76520" y="49039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501336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ieuwe situ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3534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3: Gemeenten toepassingen direct op HR-Dataservices/ </a:t>
            </a:r>
            <a:br>
              <a:rPr sz="2000"/>
            </a:b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HR-Berich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0" y="4498920"/>
            <a:ext cx="1871640" cy="988920"/>
          </a:xfrm>
          <a:prstGeom prst="rect">
            <a:avLst/>
          </a:prstGeom>
          <a:gradFill rotWithShape="0">
            <a:gsLst>
              <a:gs pos="0">
                <a:srgbClr val="27aae1"/>
              </a:gs>
              <a:gs pos="100000">
                <a:srgbClr val="ffcc33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(in lijn met StUF-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85640" y="3862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59680" y="13082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9588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9736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95880" y="2528640"/>
            <a:ext cx="0" cy="16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911840" y="2528640"/>
            <a:ext cx="556920" cy="16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85360" y="1201680"/>
            <a:ext cx="3645720" cy="1512720"/>
            <a:chOff x="2385360" y="1201680"/>
            <a:chExt cx="3645720" cy="1512720"/>
          </a:xfrm>
        </p:grpSpPr>
        <p:pic>
          <p:nvPicPr>
            <p:cNvPr id="21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408040" y="148896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3752640" y="148896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5000400" y="149040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244760" y="224604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68760" y="224604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85360" y="120168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49040" y="120168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33520" y="120168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2657520" y="2246040"/>
            <a:ext cx="46656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57520" y="224604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9" name=""/>
          <p:cNvSpPr/>
          <p:nvPr/>
        </p:nvSpPr>
        <p:spPr>
          <a:xfrm flipH="1" flipV="1">
            <a:off x="3131640" y="2774880"/>
            <a:ext cx="520920" cy="13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292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14320" y="30574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76160" y="30592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3716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46800" y="2700360"/>
            <a:ext cx="1485720" cy="1015560"/>
            <a:chOff x="5446800" y="2700360"/>
            <a:chExt cx="1485720" cy="1015560"/>
          </a:xfrm>
        </p:grpSpPr>
        <p:sp>
          <p:nvSpPr>
            <p:cNvPr id="235" name="AutoShape 16"/>
            <p:cNvSpPr/>
            <p:nvPr/>
          </p:nvSpPr>
          <p:spPr>
            <a:xfrm>
              <a:off x="5446800" y="2700360"/>
              <a:ext cx="1485720" cy="1015560"/>
            </a:xfrm>
            <a:prstGeom prst="cloudCallout">
              <a:avLst>
                <a:gd name="adj1" fmla="val -26768"/>
                <a:gd name="adj2" fmla="val 7789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97640" y="2963880"/>
              <a:ext cx="133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OEKOMST MUZIEK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614520"/>
            <a:ext cx="744084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Ein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084640" y="4435560"/>
            <a:ext cx="1476360" cy="165240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1"/>
          <p:cNvGrpSpPr/>
          <p:nvPr/>
        </p:nvGrpSpPr>
        <p:grpSpPr>
          <a:xfrm>
            <a:off x="6016680" y="4089240"/>
            <a:ext cx="1076400" cy="809640"/>
            <a:chOff x="6016680" y="4089240"/>
            <a:chExt cx="1076400" cy="809640"/>
          </a:xfrm>
        </p:grpSpPr>
        <p:pic>
          <p:nvPicPr>
            <p:cNvPr id="241" name="Picture 7" descr="MC900441367[1]"/>
            <p:cNvPicPr/>
            <p:nvPr/>
          </p:nvPicPr>
          <p:blipFill>
            <a:blip r:embed="rId2"/>
            <a:stretch/>
          </p:blipFill>
          <p:spPr>
            <a:xfrm>
              <a:off x="6016680" y="4089240"/>
              <a:ext cx="10764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9"/>
            <p:cNvSpPr/>
            <p:nvPr/>
          </p:nvSpPr>
          <p:spPr>
            <a:xfrm>
              <a:off x="6064200" y="4267080"/>
              <a:ext cx="78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Bedankt!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75880" y="1268280"/>
            <a:ext cx="7440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5baa"/>
                </a:solidFill>
                <a:latin typeface="Arial"/>
              </a:rPr>
              <a:t>Inhou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ducten &amp; Dien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heersmatige criteria 01 t/m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kele Senario’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ndels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5880" y="1557360"/>
            <a:ext cx="74408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ndelsregis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Handelsregister is de basisregistratie waarin alle bedrijven en rechtspersonen ingeschreven 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ndelsregister bestaat u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ndocumenten + aanvullende bewijsstukken (brondocumenten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eurtenissen (gebeurtenissen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uthentieke gegevens conform Hrw  (basis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vullende gegevens conform Hrb (basisregistratie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poneringen (De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invoer vindt plaats aan de hand van gebeurten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16720" y="4413240"/>
            <a:ext cx="121428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372360" y="4138560"/>
            <a:ext cx="18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6600"/>
                </a:solidFill>
                <a:latin typeface="Arial"/>
              </a:rPr>
              <a:t>Beschreven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75880" y="1433160"/>
            <a:ext cx="7440840" cy="28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Berichten (gebeurteniss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bonnement op trigger/gebeurte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Dataservices (Systeem – Systeem koppe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schrijving,  Inschrijving in ‘t k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estiging, Vestiging in ‘t k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Inz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lle KvK online produc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rugmeldfacilit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rugme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57760" y="2763720"/>
            <a:ext cx="4531680" cy="2775240"/>
            <a:chOff x="3857760" y="2763720"/>
            <a:chExt cx="4531680" cy="2775240"/>
          </a:xfrm>
        </p:grpSpPr>
        <p:sp>
          <p:nvSpPr>
            <p:cNvPr id="102" name=""/>
            <p:cNvSpPr/>
            <p:nvPr/>
          </p:nvSpPr>
          <p:spPr>
            <a:xfrm>
              <a:off x="3857760" y="448956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Pro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7518240" y="2763720"/>
              <a:ext cx="734760" cy="609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102360" y="3129120"/>
              <a:ext cx="431280" cy="56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cxnSp>
          <p:nvCxnSpPr>
            <p:cNvPr id="105" name=""/>
            <p:cNvCxnSpPr>
              <a:stCxn id="104" idx="3"/>
              <a:endCxn id="103" idx="1"/>
            </p:cNvCxnSpPr>
            <p:nvPr/>
          </p:nvCxnSpPr>
          <p:spPr>
            <a:xfrm flipV="1">
              <a:off x="6533640" y="3067920"/>
              <a:ext cx="984240" cy="34668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06" name=""/>
            <p:cNvSpPr/>
            <p:nvPr/>
          </p:nvSpPr>
          <p:spPr>
            <a:xfrm>
              <a:off x="6021360" y="37400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Afne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1000" y="5140440"/>
              <a:ext cx="1744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Bevragen Applicatie - Applicat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9" idx="3"/>
              <a:endCxn id="104" idx="1"/>
            </p:cNvCxnSpPr>
            <p:nvPr/>
          </p:nvCxnSpPr>
          <p:spPr>
            <a:xfrm flipV="1">
              <a:off x="4773600" y="3413880"/>
              <a:ext cx="1329120" cy="834120"/>
            </a:xfrm>
            <a:prstGeom prst="curvedConnector5">
              <a:avLst>
                <a:gd name="adj1" fmla="val 49932"/>
                <a:gd name="adj2" fmla="val 50000"/>
                <a:gd name="adj3" fmla="val 49932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4289400" y="3984480"/>
              <a:ext cx="483840" cy="527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cxnSp>
          <p:nvCxnSpPr>
            <p:cNvPr id="111" name=""/>
            <p:cNvCxnSpPr>
              <a:stCxn id="110" idx="2"/>
              <a:endCxn id="112" idx="1"/>
            </p:cNvCxnSpPr>
            <p:nvPr/>
          </p:nvCxnSpPr>
          <p:spPr>
            <a:xfrm flipH="1" flipV="1" rot="5400000">
              <a:off x="5808240" y="2801520"/>
              <a:ext cx="433800" cy="2986560"/>
            </a:xfrm>
            <a:prstGeom prst="curvedConnector5">
              <a:avLst>
                <a:gd name="adj1" fmla="val -52740"/>
                <a:gd name="adj2" fmla="val 27004"/>
                <a:gd name="adj3" fmla="val -52740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7518240" y="4761000"/>
              <a:ext cx="740880" cy="66204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</p:spPr>
        </p:pic>
        <p:cxnSp>
          <p:nvCxnSpPr>
            <p:cNvPr id="114" name=""/>
            <p:cNvCxnSpPr>
              <a:stCxn id="110" idx="2"/>
              <a:endCxn id="113" idx="1"/>
            </p:cNvCxnSpPr>
            <p:nvPr/>
          </p:nvCxnSpPr>
          <p:spPr>
            <a:xfrm flipH="1" rot="16200000">
              <a:off x="5734440" y="3308760"/>
              <a:ext cx="581400" cy="2986560"/>
            </a:xfrm>
            <a:prstGeom prst="curvedConnector2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368760" y="4267080"/>
              <a:ext cx="113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Inzien Onl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7518240" y="3600360"/>
              <a:ext cx="726840" cy="95436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</p:spPr>
        </p:pic>
        <p:sp>
          <p:nvSpPr>
            <p:cNvPr id="117" name=""/>
            <p:cNvSpPr/>
            <p:nvPr/>
          </p:nvSpPr>
          <p:spPr>
            <a:xfrm>
              <a:off x="6603480" y="2824200"/>
              <a:ext cx="9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Gebeurten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05560" y="4665600"/>
              <a:ext cx="983880" cy="8542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5504040" y="2205000"/>
            <a:ext cx="5983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11680" y="1557360"/>
            <a:ext cx="7063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6120" y="561960"/>
            <a:ext cx="7440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oducten &amp; Dien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43560" y="13730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Vervol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02360" y="2021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Huidige VerStuf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1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Beheercontinu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75880" y="1267920"/>
            <a:ext cx="74408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eercontinuiteit &gt;= 3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 met betrokken partij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ploper gemeenten (start ~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ftware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amer van Koophandel facilit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heer en bijeenkomsten (max 2 p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541080"/>
            <a:ext cx="5975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2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Configuratieplaat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901800"/>
            <a:ext cx="5688000" cy="552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125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STUF 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70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ENTIT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05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BER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4450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3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Releasebel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76240" y="1267920"/>
            <a:ext cx="765648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03120" indent="-3016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lease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StUF overge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ien relevant voor dit eigen sector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2 releases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ulier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april / 1 ok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tch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x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koppeld aan releases catalo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gevenscatalogus n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eurtenissencatalogus nHR (vol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4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Participatie &amp; Beslui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76240" y="1267920"/>
            <a:ext cx="78724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luitvor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richt op consensus, ma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stelt definitief va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icip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 met betrokken partije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ploper gemeenten (zeg max.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ftware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treden in overleg met 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. 2 bijeenkomsten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van de StUF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41440"/>
            <a:ext cx="749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5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Vertegenwoordiger in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4408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299880" indent="-29880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vK vertegenwoordiger aanwe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158436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26920" y="3824280"/>
            <a:ext cx="749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6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Toegankelijkheid specific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21000"/>
            <a:ext cx="7440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bsite Kamer van Koophandel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7:07:22Z</dcterms:created>
  <dc:creator>dbxron</dc:creator>
  <dc:description/>
  <dc:language>en-US</dc:language>
  <cp:lastModifiedBy>dbxron</cp:lastModifiedBy>
  <dcterms:modified xsi:type="dcterms:W3CDTF">2012-12-04T08:53:46Z</dcterms:modified>
  <cp:revision>162</cp:revision>
  <dc:subject/>
  <dc:title>Dia 1</dc:title>
</cp:coreProperties>
</file>